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67B-AFB6-4CB0-9C00-B1E3EA2A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71C-DB13-41C0-AB47-6AADEEAB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D37-5A7F-4203-9CB1-BBE1822C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994-4EB5-4A93-82B9-1D7821C4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EDA-5766-4C99-8D09-B526BDA5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CC6-32F9-45D9-88F2-4627602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1B3E-B32E-4F1E-BB53-FABD3E91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4EB-5FD8-4F97-8AC3-71B4B845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8BF-9DBB-4961-949B-339CC0FC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EFC-BA8B-4F84-BB6E-43536FBF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1EF-5BA9-44E2-ACF9-5FADCBAF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F0E-CF6D-4ED0-90D4-DEF5BF52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7306-8652-4F5C-8530-38B87325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tice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971800" cy="2555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819520" y="2514600"/>
            <a:ext cx="49528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0 + 2 + 5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819520" y="2514600"/>
            <a:ext cx="49528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607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+ 2 + 5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 + 6 + 1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819520" y="2514600"/>
            <a:ext cx="49528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2680" y="5334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133720" y="60786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+ 2 + 5 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5410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+ 6 + 1 =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048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0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17524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3048120"/>
            <a:ext cx="37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7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175200" cy="35244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638680" y="304920"/>
            <a:ext cx="3200400" cy="2133360"/>
          </a:xfrm>
          <a:prstGeom prst="wedgeEllipseCallout">
            <a:avLst>
              <a:gd name="adj1" fmla="val -14037"/>
              <a:gd name="adj2" fmla="val 69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Soooo C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pplaus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Exampl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934320" y="2895480"/>
            <a:ext cx="1803240" cy="19494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19320" y="2057400"/>
            <a:ext cx="3200400" cy="2133720"/>
          </a:xfrm>
          <a:prstGeom prst="wedgeEllipseCallout">
            <a:avLst>
              <a:gd name="adj1" fmla="val 124055"/>
              <a:gd name="adj2" fmla="val -130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 until you see thi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716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276720" cy="316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2819520"/>
            <a:ext cx="2438280" cy="1676160"/>
          </a:xfrm>
          <a:prstGeom prst="wedgeEllipseCallout">
            <a:avLst>
              <a:gd name="adj1" fmla="val -73370"/>
              <a:gd name="adj2" fmla="val 45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n’t remember how to multipl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91520" y="6400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79132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62320" y="6248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9132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62320" y="6078600"/>
            <a:ext cx="4419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+ 1 + 5 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the ten to the next colum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29000" y="5257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150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 * 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43400" y="3048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200400" y="24382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7712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62485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791320" y="54864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5257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1500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76520" y="26668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17524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73 * 5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3048120"/>
            <a:ext cx="37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55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175200" cy="3524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638680" y="304920"/>
            <a:ext cx="3200400" cy="2133360"/>
          </a:xfrm>
          <a:prstGeom prst="wedgeEllipseCallout">
            <a:avLst>
              <a:gd name="adj1" fmla="val -14037"/>
              <a:gd name="adj2" fmla="val 69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Soooo C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remember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432240" cy="38098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048120" cy="2878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719440" cy="294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533520"/>
            <a:ext cx="2209680" cy="914400"/>
          </a:xfrm>
          <a:prstGeom prst="wedgeEllipseCallout">
            <a:avLst>
              <a:gd name="adj1" fmla="val 3162"/>
              <a:gd name="adj2" fmla="val 9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80880"/>
            <a:ext cx="4038480" cy="1981440"/>
          </a:xfrm>
          <a:prstGeom prst="wedgeEllipseCallout">
            <a:avLst>
              <a:gd name="adj1" fmla="val -3106"/>
              <a:gd name="adj2" fmla="val 63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help!!  Let me show you how to do Lattice Multi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9625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400" y="2514600"/>
            <a:ext cx="35812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2 digit number gets a 2 x 2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 *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2514600"/>
            <a:ext cx="44197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295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295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2952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434340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39625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828440" y="2514600"/>
            <a:ext cx="3809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437920" y="2514600"/>
            <a:ext cx="53341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00800" y="44956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514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25909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29718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962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 Start with the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8880" y="5715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4100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9:03:51Z</dcterms:created>
  <dc:creator>reynoldskathleen</dc:creator>
  <dc:description/>
  <dc:language>en-US</dc:language>
  <cp:lastModifiedBy> </cp:lastModifiedBy>
  <dcterms:modified xsi:type="dcterms:W3CDTF">2008-05-09T17:54:11Z</dcterms:modified>
  <cp:revision>48</cp:revision>
  <dc:subject/>
  <dc:title>Lattice Multiplication</dc:title>
</cp:coreProperties>
</file>